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6AD2-08D0-49F8-BAAF-9D3F66002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7455-D612-4C72-A3F8-0D63AEC02F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EC1-747C-49EC-ABD8-CAB2E999DF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E0A-34A8-483E-822B-4306035080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E0B6-BFB0-4593-A3CE-F099CE21C6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5EB8-A064-484E-B57A-796198E269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1FB1-73FD-4DE7-A3BF-85E7829F9B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BDA-3B3E-405B-B067-C8A2B0DC97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ECA0-D5A9-44CA-8AB1-AEBE87952B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441E-4075-4E90-9E2C-7B404353AE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0665-67EB-453C-B524-ACDB07AB15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F0A3-A1CE-430E-AFA4-91C76D6193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B2AB-E347-4A57-8080-E81879BCDB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E981-BDF5-4A8A-B759-2E1AC35466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E6AC-5693-4801-B255-5B7133BA75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1CC7-B459-42FB-9C6C-74FE647BDD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3E99-EF1F-43BD-9954-92575585CE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2F8-C2F7-4DF6-A6C8-92074AFD27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386F-3C88-447C-9A54-61F8912925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FFBC-430F-4EFF-B5C1-FD23F17676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D9B-498E-45AC-9FBB-67FFFDB209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66B4-CE4B-4A9E-97FE-F2806AFF6A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AF34-C7B7-4D12-99D9-8B644C0898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92F3-5EF7-4639-B4C2-3A9FFFD1DB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9CA8-1E32-4C02-B3B6-FD41B7E966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AFC7-31E1-4834-8E8C-1FE5F8FDE6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0BE5-F592-4B52-AC5C-7B04146C5F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C4DA-AFA3-4DAF-AF9D-B9222C24E5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189-8192-42E1-8867-EF0FBD3B92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3D75-A043-429E-B668-0858AEAAD5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0E75-D7DA-482D-A3B2-E944DE9ACB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D8B4-DD11-4663-867E-2AEC0521CE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388-90E8-4606-B768-917E190BCE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B910-B186-42A2-BA16-CCC5192FAF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84AA-8338-4EE5-9B1B-05867041CE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464C-659F-419A-912C-646CEB30F4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9E3-4B3A-4231-8ECC-C4E30555E3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4A6-207B-419F-AE87-F2E6E55B1D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7F9D-3F16-4E86-AA0C-9D5AF86D7A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7D1A-BF01-45BA-8486-E9825D3EAE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D1E4-FCDC-4126-8D66-DAB4A1CD03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B7E2-8243-48E7-A8A4-D04D0812E2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049A-6B0A-4D1A-ACB4-D0102CA10E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927E-A369-4110-9327-5B298C6150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5829-28D5-43BC-91DC-75D8FEB138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A293-0687-4DC9-B7FA-6E395153D5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2E1-BA90-4BDC-9871-652EBB6A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313-5854-4DB2-96A3-F6D39EB6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191-F38F-4316-B823-BBF47397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B88-E95F-4023-815C-6521ED31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62E3-C081-4341-AF46-24F9FA4E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A8F7-0528-4A76-BFC6-B545D877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AF5A-8457-4F1E-B3A5-BE71D6BE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650D-5698-4451-A2FB-4B83BA15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FE21-F6EB-4977-94C8-46F38276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0AEA-08E2-40A7-871B-65CE0208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C6C7-2AAC-47D0-884D-B06D15F9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A61-F642-4BAA-87FF-48B8199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476D-95C1-4429-AA69-F8EF286E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2CDA-8799-4819-99F1-D782ECA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2277-9AD9-434F-9259-E570EB41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EAB5-BF99-497C-B7EB-6D0F36AB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FAA1-8987-4BB8-B4DA-621023F7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BF2-A437-4D9B-AAEF-A867613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59F-DECC-4ECC-AF2A-5438B22D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354-3758-4B82-9941-811A4EC2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D0C-A333-4650-9289-7AD9457F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1D4-C823-4046-BAA7-7D9A2CF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665-A63D-4853-B4DC-73E6605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85B-B4ED-4A50-8AA3-072B1D0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2161-EF16-46FB-B054-C596FEE8B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49C-E5E6-491C-BAA4-8E3E30D1C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hapter 24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rom Nixon to Carter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manda Sawyer, Danielle Floyd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ia Franco &amp; Jacob Gar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3$T10NZ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the FAP stand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Southern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the FAP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étente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Nix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U.S. security advisor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issin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elieved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s should pursue policies and make alliances based on national interests, not on views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and Kissinger cre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tente based on balance of power among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air rel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communist powers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a and Soviet Un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6920" y="106668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Kiss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nixon"/>
          <p:cNvPicPr/>
          <p:nvPr/>
        </p:nvPicPr>
        <p:blipFill>
          <a:blip r:embed="rId1"/>
          <a:stretch/>
        </p:blipFill>
        <p:spPr>
          <a:xfrm>
            <a:off x="380880" y="1905120"/>
            <a:ext cx="398016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nwo-kissinger"/>
          <p:cNvPicPr/>
          <p:nvPr/>
        </p:nvPicPr>
        <p:blipFill>
          <a:blip r:embed="rId2"/>
          <a:stretch/>
        </p:blipFill>
        <p:spPr>
          <a:xfrm>
            <a:off x="4876920" y="1905120"/>
            <a:ext cx="338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 of Ch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ant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t China and Soviet U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rd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essure Soviet Union to make negotiations on limiting nuclear 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pril 1971, U.S. ended trade embargo with Ch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ebruary 1972, Nixon went to China and agreed to resume tr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sig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Arms Limitation T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reement with Soviet Un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the number of missile defense systems in each count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ould be one in the capital city and one in the main missile launching ce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id not limit long-range missiles or bombs with multiple independently targeted warheads, did not prohibit development of nuclear weap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m Kippur W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ypt and Syria attacked Israel to get back land the lost in the 1967 six day w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ume peace making role, Nixon and Kissinger withheld and granted supplies to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test aid to Israel, Arab oil producing countries stopped shipments to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fixed relations with Arabs and made new cease fire deal October 26, 1973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sting Pe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 and Israel signed a peace agreement September 197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 recognized Israel, and Israel gave up part of Sinai peninsul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promised military aid to both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and Kissinger encouraged Soviet Union to arm radical Arab f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 Given Back to Egyp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4" descr="slide4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tin Ame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orlds economy grew, Latin America prosper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 U.S. had $35 billion invested in Latin American Industri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in America borrowed money from U.S. banks in order to finance their economic grow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oil prices went up, they grew deeper in deb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.S.-Latin America Rel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o welcomed American investments and wanted to be able to keep crossing the border for job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want to make trade agreements with the U.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tried to create their own industries so they could separate from Americas hold on their econom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merican Divis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the 1960’s American socie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d into hostile c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cad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 &amp; social change ripped the nation a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s vs. Lib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ers vs.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s vs. bl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d vs. yo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lende in Pow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dor Allende ran for presidency of Chile in 197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and Kissinger feared with Allende as president Chile would ally with Soviet Union and Cuba, and communism would sp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llende could become presid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had him assassinated in 197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dor Allen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salvador%20allende%20color"/>
          <p:cNvPicPr/>
          <p:nvPr/>
        </p:nvPicPr>
        <p:blipFill>
          <a:blip r:embed="rId1"/>
          <a:stretch/>
        </p:blipFill>
        <p:spPr>
          <a:xfrm>
            <a:off x="380880" y="762120"/>
            <a:ext cx="4254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97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won the re-el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rumored that he had played dirty tricks, but it was never prov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Détente poli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Mexico depend on us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wo countries signed a peace trea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t Nix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Nixon first took office in 19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d self with trusted and loyal aides such as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.R. Halde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sed his powers in many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unded funds for federal programs he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ing troops to invade Cambodia without congressional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ixon White Ho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protected self from critic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up enemies list, asking FBI to spy on oppossers/discredi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ton Plan, plan to infiltrate antiwar groups by tapping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EP (Committee to Re-Elect the President) for operations to sabotage 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mbers”, stop security leaks from th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641840" cy="624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3228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ergate Cri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17, 1972 a team of “plumbers” broke into Democratic National Committee headquarters, authorized by CREEP aide G. Gordon Lid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tap phones and copy document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tabs on Democratic strateg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 House denied affil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ut in trial James McCord alleged their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335040" cy="3810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43240" cy="2733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3733920" cy="2762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28600" y="6095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ch the Waterg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4"/>
          <a:stretch/>
        </p:blipFill>
        <p:spPr>
          <a:xfrm>
            <a:off x="4800600" y="152280"/>
            <a:ext cx="40384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Tap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Senate Hearings of the Watergate break-i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House aide Alexander Butterfield told Senate Nixon had installed tape recording system in White House since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refused Senate’s call for him to surrender the tapes, later released edited 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ly appointed Leon Jaworski called on Supreme Court, then unanimously ruled for Nixon to release tapes July 24, 19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ervative Backlas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la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Sudden reaction against liberalism of the 196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cl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king America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nted paying tax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ederal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this because they believed t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ted only the po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or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MARTPenAnnotation4"/>
          <p:cNvSpPr/>
          <p:nvPr/>
        </p:nvSpPr>
        <p:spPr>
          <a:xfrm>
            <a:off x="1371600" y="2743200"/>
            <a:ext cx="1433520" cy="1620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903" h="102">
                <a:moveTo>
                  <a:pt x="0" y="6"/>
                </a:moveTo>
                <a:lnTo>
                  <a:pt x="8" y="6"/>
                </a:lnTo>
                <a:lnTo>
                  <a:pt x="16" y="9"/>
                </a:lnTo>
                <a:lnTo>
                  <a:pt x="23" y="10"/>
                </a:lnTo>
                <a:lnTo>
                  <a:pt x="47" y="11"/>
                </a:lnTo>
                <a:lnTo>
                  <a:pt x="534" y="11"/>
                </a:lnTo>
                <a:lnTo>
                  <a:pt x="544" y="10"/>
                </a:lnTo>
                <a:lnTo>
                  <a:pt x="553" y="7"/>
                </a:lnTo>
                <a:lnTo>
                  <a:pt x="579" y="6"/>
                </a:lnTo>
                <a:lnTo>
                  <a:pt x="609" y="6"/>
                </a:lnTo>
                <a:lnTo>
                  <a:pt x="890" y="6"/>
                </a:lnTo>
                <a:lnTo>
                  <a:pt x="892" y="6"/>
                </a:lnTo>
                <a:lnTo>
                  <a:pt x="892" y="7"/>
                </a:lnTo>
                <a:lnTo>
                  <a:pt x="893" y="9"/>
                </a:lnTo>
                <a:lnTo>
                  <a:pt x="894" y="9"/>
                </a:lnTo>
                <a:lnTo>
                  <a:pt x="895" y="10"/>
                </a:lnTo>
                <a:lnTo>
                  <a:pt x="898" y="11"/>
                </a:lnTo>
                <a:lnTo>
                  <a:pt x="902" y="11"/>
                </a:lnTo>
                <a:lnTo>
                  <a:pt x="894" y="11"/>
                </a:lnTo>
                <a:lnTo>
                  <a:pt x="892" y="12"/>
                </a:lnTo>
                <a:lnTo>
                  <a:pt x="887" y="14"/>
                </a:lnTo>
                <a:lnTo>
                  <a:pt x="883" y="16"/>
                </a:lnTo>
                <a:lnTo>
                  <a:pt x="879" y="17"/>
                </a:lnTo>
                <a:lnTo>
                  <a:pt x="872" y="20"/>
                </a:lnTo>
                <a:lnTo>
                  <a:pt x="866" y="23"/>
                </a:lnTo>
                <a:lnTo>
                  <a:pt x="859" y="26"/>
                </a:lnTo>
                <a:lnTo>
                  <a:pt x="851" y="28"/>
                </a:lnTo>
                <a:lnTo>
                  <a:pt x="845" y="31"/>
                </a:lnTo>
                <a:lnTo>
                  <a:pt x="838" y="32"/>
                </a:lnTo>
                <a:lnTo>
                  <a:pt x="810" y="34"/>
                </a:lnTo>
                <a:lnTo>
                  <a:pt x="717" y="34"/>
                </a:lnTo>
                <a:lnTo>
                  <a:pt x="693" y="32"/>
                </a:lnTo>
                <a:lnTo>
                  <a:pt x="679" y="31"/>
                </a:lnTo>
                <a:lnTo>
                  <a:pt x="664" y="29"/>
                </a:lnTo>
                <a:lnTo>
                  <a:pt x="613" y="20"/>
                </a:lnTo>
                <a:lnTo>
                  <a:pt x="579" y="16"/>
                </a:lnTo>
                <a:lnTo>
                  <a:pt x="562" y="14"/>
                </a:lnTo>
                <a:lnTo>
                  <a:pt x="545" y="13"/>
                </a:lnTo>
                <a:lnTo>
                  <a:pt x="529" y="13"/>
                </a:lnTo>
                <a:lnTo>
                  <a:pt x="512" y="11"/>
                </a:lnTo>
                <a:lnTo>
                  <a:pt x="496" y="9"/>
                </a:lnTo>
                <a:lnTo>
                  <a:pt x="481" y="6"/>
                </a:lnTo>
                <a:lnTo>
                  <a:pt x="455" y="3"/>
                </a:lnTo>
                <a:lnTo>
                  <a:pt x="433" y="1"/>
                </a:lnTo>
                <a:lnTo>
                  <a:pt x="413" y="0"/>
                </a:lnTo>
                <a:lnTo>
                  <a:pt x="373" y="0"/>
                </a:lnTo>
                <a:lnTo>
                  <a:pt x="290" y="0"/>
                </a:lnTo>
                <a:lnTo>
                  <a:pt x="295" y="0"/>
                </a:lnTo>
                <a:lnTo>
                  <a:pt x="306" y="3"/>
                </a:lnTo>
                <a:lnTo>
                  <a:pt x="321" y="8"/>
                </a:lnTo>
                <a:lnTo>
                  <a:pt x="328" y="10"/>
                </a:lnTo>
                <a:lnTo>
                  <a:pt x="343" y="13"/>
                </a:lnTo>
                <a:lnTo>
                  <a:pt x="353" y="15"/>
                </a:lnTo>
                <a:lnTo>
                  <a:pt x="376" y="19"/>
                </a:lnTo>
                <a:lnTo>
                  <a:pt x="389" y="22"/>
                </a:lnTo>
                <a:lnTo>
                  <a:pt x="404" y="26"/>
                </a:lnTo>
                <a:lnTo>
                  <a:pt x="419" y="30"/>
                </a:lnTo>
                <a:lnTo>
                  <a:pt x="434" y="35"/>
                </a:lnTo>
                <a:lnTo>
                  <a:pt x="465" y="46"/>
                </a:lnTo>
                <a:lnTo>
                  <a:pt x="481" y="50"/>
                </a:lnTo>
                <a:lnTo>
                  <a:pt x="500" y="55"/>
                </a:lnTo>
                <a:lnTo>
                  <a:pt x="519" y="59"/>
                </a:lnTo>
                <a:lnTo>
                  <a:pt x="539" y="63"/>
                </a:lnTo>
                <a:lnTo>
                  <a:pt x="560" y="65"/>
                </a:lnTo>
                <a:lnTo>
                  <a:pt x="581" y="68"/>
                </a:lnTo>
                <a:lnTo>
                  <a:pt x="623" y="74"/>
                </a:lnTo>
                <a:lnTo>
                  <a:pt x="644" y="78"/>
                </a:lnTo>
                <a:lnTo>
                  <a:pt x="663" y="80"/>
                </a:lnTo>
                <a:lnTo>
                  <a:pt x="681" y="81"/>
                </a:lnTo>
                <a:lnTo>
                  <a:pt x="698" y="82"/>
                </a:lnTo>
                <a:lnTo>
                  <a:pt x="729" y="83"/>
                </a:lnTo>
                <a:lnTo>
                  <a:pt x="789" y="84"/>
                </a:lnTo>
                <a:lnTo>
                  <a:pt x="817" y="84"/>
                </a:lnTo>
                <a:lnTo>
                  <a:pt x="819" y="85"/>
                </a:lnTo>
                <a:lnTo>
                  <a:pt x="823" y="87"/>
                </a:lnTo>
                <a:lnTo>
                  <a:pt x="827" y="89"/>
                </a:lnTo>
                <a:lnTo>
                  <a:pt x="834" y="90"/>
                </a:lnTo>
                <a:lnTo>
                  <a:pt x="851" y="90"/>
                </a:lnTo>
                <a:lnTo>
                  <a:pt x="851" y="91"/>
                </a:lnTo>
                <a:lnTo>
                  <a:pt x="848" y="93"/>
                </a:lnTo>
                <a:lnTo>
                  <a:pt x="842" y="94"/>
                </a:lnTo>
                <a:lnTo>
                  <a:pt x="830" y="97"/>
                </a:lnTo>
                <a:lnTo>
                  <a:pt x="820" y="99"/>
                </a:lnTo>
                <a:lnTo>
                  <a:pt x="793" y="101"/>
                </a:lnTo>
                <a:lnTo>
                  <a:pt x="751" y="101"/>
                </a:lnTo>
                <a:lnTo>
                  <a:pt x="733" y="100"/>
                </a:lnTo>
                <a:lnTo>
                  <a:pt x="723" y="98"/>
                </a:lnTo>
                <a:lnTo>
                  <a:pt x="713" y="96"/>
                </a:lnTo>
                <a:lnTo>
                  <a:pt x="702" y="93"/>
                </a:lnTo>
                <a:lnTo>
                  <a:pt x="691" y="90"/>
                </a:lnTo>
                <a:lnTo>
                  <a:pt x="679" y="88"/>
                </a:lnTo>
                <a:lnTo>
                  <a:pt x="667" y="85"/>
                </a:lnTo>
                <a:lnTo>
                  <a:pt x="655" y="83"/>
                </a:lnTo>
                <a:lnTo>
                  <a:pt x="641" y="80"/>
                </a:lnTo>
                <a:lnTo>
                  <a:pt x="613" y="74"/>
                </a:lnTo>
                <a:lnTo>
                  <a:pt x="600" y="70"/>
                </a:lnTo>
                <a:lnTo>
                  <a:pt x="587" y="65"/>
                </a:lnTo>
                <a:lnTo>
                  <a:pt x="575" y="60"/>
                </a:lnTo>
                <a:lnTo>
                  <a:pt x="562" y="57"/>
                </a:lnTo>
                <a:lnTo>
                  <a:pt x="548" y="55"/>
                </a:lnTo>
                <a:lnTo>
                  <a:pt x="534" y="54"/>
                </a:lnTo>
                <a:lnTo>
                  <a:pt x="519" y="51"/>
                </a:lnTo>
                <a:lnTo>
                  <a:pt x="504" y="49"/>
                </a:lnTo>
                <a:lnTo>
                  <a:pt x="488" y="46"/>
                </a:lnTo>
                <a:lnTo>
                  <a:pt x="470" y="43"/>
                </a:lnTo>
                <a:lnTo>
                  <a:pt x="432" y="38"/>
                </a:lnTo>
                <a:lnTo>
                  <a:pt x="372" y="32"/>
                </a:lnTo>
                <a:lnTo>
                  <a:pt x="352" y="30"/>
                </a:lnTo>
                <a:lnTo>
                  <a:pt x="333" y="27"/>
                </a:lnTo>
                <a:lnTo>
                  <a:pt x="314" y="23"/>
                </a:lnTo>
                <a:lnTo>
                  <a:pt x="298" y="21"/>
                </a:lnTo>
                <a:lnTo>
                  <a:pt x="275" y="19"/>
                </a:lnTo>
                <a:lnTo>
                  <a:pt x="250" y="17"/>
                </a:lnTo>
                <a:lnTo>
                  <a:pt x="225" y="17"/>
                </a:lnTo>
                <a:lnTo>
                  <a:pt x="183" y="17"/>
                </a:lnTo>
                <a:lnTo>
                  <a:pt x="191" y="17"/>
                </a:lnTo>
                <a:lnTo>
                  <a:pt x="193" y="18"/>
                </a:lnTo>
                <a:lnTo>
                  <a:pt x="198" y="20"/>
                </a:lnTo>
                <a:lnTo>
                  <a:pt x="207" y="21"/>
                </a:lnTo>
                <a:lnTo>
                  <a:pt x="229" y="22"/>
                </a:lnTo>
                <a:lnTo>
                  <a:pt x="252" y="23"/>
                </a:lnTo>
                <a:lnTo>
                  <a:pt x="286" y="25"/>
                </a:lnTo>
                <a:lnTo>
                  <a:pt x="304" y="26"/>
                </a:lnTo>
                <a:lnTo>
                  <a:pt x="364" y="28"/>
                </a:lnTo>
                <a:lnTo>
                  <a:pt x="428" y="32"/>
                </a:lnTo>
                <a:lnTo>
                  <a:pt x="473" y="33"/>
                </a:lnTo>
                <a:lnTo>
                  <a:pt x="540" y="33"/>
                </a:lnTo>
                <a:lnTo>
                  <a:pt x="562" y="34"/>
                </a:lnTo>
                <a:lnTo>
                  <a:pt x="644" y="38"/>
                </a:lnTo>
                <a:lnTo>
                  <a:pt x="694" y="39"/>
                </a:lnTo>
                <a:lnTo>
                  <a:pt x="713" y="39"/>
                </a:lnTo>
                <a:lnTo>
                  <a:pt x="688" y="41"/>
                </a:lnTo>
                <a:lnTo>
                  <a:pt x="663" y="43"/>
                </a:lnTo>
                <a:lnTo>
                  <a:pt x="625" y="44"/>
                </a:lnTo>
                <a:lnTo>
                  <a:pt x="65" y="45"/>
                </a:lnTo>
                <a:lnTo>
                  <a:pt x="60" y="47"/>
                </a:lnTo>
                <a:lnTo>
                  <a:pt x="54" y="49"/>
                </a:lnTo>
                <a:lnTo>
                  <a:pt x="49" y="50"/>
                </a:lnTo>
                <a:lnTo>
                  <a:pt x="48" y="51"/>
                </a:lnTo>
                <a:lnTo>
                  <a:pt x="48" y="52"/>
                </a:lnTo>
                <a:lnTo>
                  <a:pt x="49" y="53"/>
                </a:lnTo>
                <a:lnTo>
                  <a:pt x="51" y="54"/>
                </a:lnTo>
                <a:lnTo>
                  <a:pt x="59" y="56"/>
                </a:lnTo>
                <a:lnTo>
                  <a:pt x="66" y="59"/>
                </a:lnTo>
                <a:lnTo>
                  <a:pt x="87" y="62"/>
                </a:lnTo>
                <a:lnTo>
                  <a:pt x="128" y="68"/>
                </a:lnTo>
                <a:lnTo>
                  <a:pt x="155" y="71"/>
                </a:lnTo>
                <a:lnTo>
                  <a:pt x="197" y="73"/>
                </a:lnTo>
                <a:lnTo>
                  <a:pt x="230" y="76"/>
                </a:lnTo>
                <a:lnTo>
                  <a:pt x="248" y="77"/>
                </a:lnTo>
                <a:lnTo>
                  <a:pt x="287" y="78"/>
                </a:lnTo>
                <a:lnTo>
                  <a:pt x="385" y="79"/>
                </a:lnTo>
                <a:lnTo>
                  <a:pt x="500" y="79"/>
                </a:lnTo>
                <a:lnTo>
                  <a:pt x="502" y="79"/>
                </a:lnTo>
                <a:lnTo>
                  <a:pt x="503" y="80"/>
                </a:lnTo>
                <a:lnTo>
                  <a:pt x="501" y="83"/>
                </a:lnTo>
                <a:lnTo>
                  <a:pt x="499" y="85"/>
                </a:lnTo>
                <a:lnTo>
                  <a:pt x="498" y="87"/>
                </a:lnTo>
                <a:lnTo>
                  <a:pt x="496" y="88"/>
                </a:lnTo>
                <a:lnTo>
                  <a:pt x="493" y="90"/>
                </a:lnTo>
                <a:lnTo>
                  <a:pt x="487" y="93"/>
                </a:lnTo>
                <a:lnTo>
                  <a:pt x="479" y="96"/>
                </a:lnTo>
                <a:lnTo>
                  <a:pt x="470" y="98"/>
                </a:lnTo>
                <a:lnTo>
                  <a:pt x="449" y="100"/>
                </a:lnTo>
                <a:lnTo>
                  <a:pt x="426" y="101"/>
                </a:lnTo>
                <a:lnTo>
                  <a:pt x="219" y="101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581280" y="133344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each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- charges of miscon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on 3 cou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ructing justice by trying to cover up White House involvement in Water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olating rights by using FBI, CIA, &amp; IRS to harass cri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ying Congress by refusing to turn over the 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first American President ever to resign from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 (V.P.) took office, and pardoned (excused) Nixon for crimes he committed in Whit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created laws: War Powers Act of 1973, Congressional Budget and Impoundment Act of 1974, &amp; the Privacy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in order to protect constitutional law, which was threatened by Nixon Whit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wo main ways that Nixon abused his powers while in off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team of people that broke into the Watergate complex c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pard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d Follows Nix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ichard Nixon resigned as president his VP Gerald R. Ford was left during the national cri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greatest obstacle in effort to restore public faith in the govt. was h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ability to control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es began slowing down and industrial productivity had slowed and the cost of goods wen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image"/>
          <p:cNvPicPr/>
          <p:nvPr/>
        </p:nvPicPr>
        <p:blipFill>
          <a:blip r:embed="rId1"/>
          <a:stretch/>
        </p:blipFill>
        <p:spPr>
          <a:xfrm>
            <a:off x="304920" y="304920"/>
            <a:ext cx="4952880" cy="3608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GERALDFORD-783038"/>
          <p:cNvPicPr/>
          <p:nvPr/>
        </p:nvPicPr>
        <p:blipFill>
          <a:blip r:embed="rId2"/>
          <a:stretch/>
        </p:blipFill>
        <p:spPr>
          <a:xfrm>
            <a:off x="4419720" y="1523880"/>
            <a:ext cx="3365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ergy Crisis Is Bor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 economic machine demanded huge amounts of 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udi Arabia imposed an embargo, a restriction of trade, on oil and shipped to Israel's allies, including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argo was lifted in 197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economic effects continued through the end of the dec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els and Stee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oil embargo had a big effect on the U.S auto and steel indust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rican cars were produced in Detroit but the oil embargo pric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d and no one wanted anything to do with the “gas guzzle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consum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witched to foreign car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ause of the switch American auto plants closed and 300,000 workers lost their job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t Respo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Ford decided the economy c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ved by attacking inf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ll 6 perc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19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result industrial production plummeted and unemployment r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out of 10 were out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 plunged to its worst recession, an economic slowdow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te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s elected the 3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esid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ed to get economy out of recession by cutting taxes and increasing govt. spen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employment came down but inflation ro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usinesses, industries, and homeowners forced energy shortag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ters approval ratings fell 26 % as a result to the dramatic life ch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3b52090r1"/>
          <p:cNvPicPr/>
          <p:nvPr/>
        </p:nvPicPr>
        <p:blipFill>
          <a:blip r:embed="rId1"/>
          <a:stretch/>
        </p:blipFill>
        <p:spPr>
          <a:xfrm>
            <a:off x="2362320" y="380880"/>
            <a:ext cx="4209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838080" y="0"/>
            <a:ext cx="800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eign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 crea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oreign poli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sed on the rights and freedoms he believed should be available to all the people around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choose leaders in fair and honesty e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s to a fair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worship and travel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free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 and soviet leaders sig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Strategic Arms Limitation Treaty (SALT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number of missiles, bombers, and nuclear warheads to each side could h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 administr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 military aid to South and Central American dictat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had an agreement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f the Panama ca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ate ratified and gave the U.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d the neutrality of the ca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mp David Accord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 between Israel and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’s President Anwar el-Sadet and Israeli Prime Minister Menachem Begin met at Camp David and made pe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rael's Prime Minister Begin, U.S president Carter, and Egypt’s President Sada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begin-sadat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ranian Hostage Cri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 armed mob stormed the U.S embassy at the capital of Iran and seized diplomats and military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980 carter authorized a raid to rescue ho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20, 198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ent Ronald Reagan’s Inauguration day the hostages were fr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amp David Acco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Nixon resigned who became presi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re the hostages of Iran free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ixon’s New Conservat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x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in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raised in a hard working middle class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d Americans even fur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wanted to g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conserv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Feder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series of programs that would “Reverse the flow of power and resources from the states and communities to Washington and start power and resources flowing back … the peopl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3"/>
          <p:cNvSpPr/>
          <p:nvPr/>
        </p:nvSpPr>
        <p:spPr>
          <a:xfrm>
            <a:off x="2819520" y="4114800"/>
            <a:ext cx="2550960" cy="169920"/>
          </a:xfrm>
          <a:custGeom>
            <a:avLst/>
            <a:gdLst>
              <a:gd name="textAreaLeft" fmla="*/ 0 w 2550960"/>
              <a:gd name="textAreaRight" fmla="*/ 2550960 w 25509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607" h="107">
                <a:moveTo>
                  <a:pt x="37" y="0"/>
                </a:moveTo>
                <a:lnTo>
                  <a:pt x="40" y="0"/>
                </a:lnTo>
                <a:lnTo>
                  <a:pt x="54" y="2"/>
                </a:lnTo>
                <a:lnTo>
                  <a:pt x="87" y="5"/>
                </a:lnTo>
                <a:lnTo>
                  <a:pt x="112" y="8"/>
                </a:lnTo>
                <a:lnTo>
                  <a:pt x="164" y="11"/>
                </a:lnTo>
                <a:lnTo>
                  <a:pt x="191" y="13"/>
                </a:lnTo>
                <a:lnTo>
                  <a:pt x="233" y="16"/>
                </a:lnTo>
                <a:lnTo>
                  <a:pt x="292" y="16"/>
                </a:lnTo>
                <a:lnTo>
                  <a:pt x="527" y="16"/>
                </a:lnTo>
                <a:lnTo>
                  <a:pt x="539" y="13"/>
                </a:lnTo>
                <a:lnTo>
                  <a:pt x="556" y="11"/>
                </a:lnTo>
                <a:lnTo>
                  <a:pt x="599" y="11"/>
                </a:lnTo>
                <a:lnTo>
                  <a:pt x="1501" y="11"/>
                </a:lnTo>
                <a:lnTo>
                  <a:pt x="1502" y="11"/>
                </a:lnTo>
                <a:lnTo>
                  <a:pt x="1503" y="12"/>
                </a:lnTo>
                <a:lnTo>
                  <a:pt x="1504" y="14"/>
                </a:lnTo>
                <a:lnTo>
                  <a:pt x="1503" y="15"/>
                </a:lnTo>
                <a:lnTo>
                  <a:pt x="1497" y="18"/>
                </a:lnTo>
                <a:lnTo>
                  <a:pt x="1478" y="27"/>
                </a:lnTo>
                <a:lnTo>
                  <a:pt x="1469" y="32"/>
                </a:lnTo>
                <a:lnTo>
                  <a:pt x="1459" y="39"/>
                </a:lnTo>
                <a:lnTo>
                  <a:pt x="1448" y="46"/>
                </a:lnTo>
                <a:lnTo>
                  <a:pt x="1436" y="53"/>
                </a:lnTo>
                <a:lnTo>
                  <a:pt x="1423" y="58"/>
                </a:lnTo>
                <a:lnTo>
                  <a:pt x="1409" y="63"/>
                </a:lnTo>
                <a:lnTo>
                  <a:pt x="1396" y="68"/>
                </a:lnTo>
                <a:lnTo>
                  <a:pt x="1385" y="73"/>
                </a:lnTo>
                <a:lnTo>
                  <a:pt x="1374" y="79"/>
                </a:lnTo>
                <a:lnTo>
                  <a:pt x="1362" y="84"/>
                </a:lnTo>
                <a:lnTo>
                  <a:pt x="1349" y="88"/>
                </a:lnTo>
                <a:lnTo>
                  <a:pt x="1335" y="92"/>
                </a:lnTo>
                <a:lnTo>
                  <a:pt x="1322" y="96"/>
                </a:lnTo>
                <a:lnTo>
                  <a:pt x="1309" y="99"/>
                </a:lnTo>
                <a:lnTo>
                  <a:pt x="1295" y="101"/>
                </a:lnTo>
                <a:lnTo>
                  <a:pt x="1265" y="104"/>
                </a:lnTo>
                <a:lnTo>
                  <a:pt x="1232" y="105"/>
                </a:lnTo>
                <a:lnTo>
                  <a:pt x="1147" y="106"/>
                </a:lnTo>
                <a:lnTo>
                  <a:pt x="945" y="106"/>
                </a:lnTo>
                <a:lnTo>
                  <a:pt x="902" y="105"/>
                </a:lnTo>
                <a:lnTo>
                  <a:pt x="858" y="103"/>
                </a:lnTo>
                <a:lnTo>
                  <a:pt x="816" y="102"/>
                </a:lnTo>
                <a:lnTo>
                  <a:pt x="797" y="100"/>
                </a:lnTo>
                <a:lnTo>
                  <a:pt x="781" y="98"/>
                </a:lnTo>
                <a:lnTo>
                  <a:pt x="765" y="95"/>
                </a:lnTo>
                <a:lnTo>
                  <a:pt x="740" y="92"/>
                </a:lnTo>
                <a:lnTo>
                  <a:pt x="701" y="90"/>
                </a:lnTo>
                <a:lnTo>
                  <a:pt x="661" y="88"/>
                </a:lnTo>
                <a:lnTo>
                  <a:pt x="613" y="82"/>
                </a:lnTo>
                <a:lnTo>
                  <a:pt x="601" y="79"/>
                </a:lnTo>
                <a:lnTo>
                  <a:pt x="589" y="76"/>
                </a:lnTo>
                <a:lnTo>
                  <a:pt x="578" y="73"/>
                </a:lnTo>
                <a:lnTo>
                  <a:pt x="565" y="71"/>
                </a:lnTo>
                <a:lnTo>
                  <a:pt x="551" y="68"/>
                </a:lnTo>
                <a:lnTo>
                  <a:pt x="537" y="66"/>
                </a:lnTo>
                <a:lnTo>
                  <a:pt x="523" y="63"/>
                </a:lnTo>
                <a:lnTo>
                  <a:pt x="494" y="57"/>
                </a:lnTo>
                <a:lnTo>
                  <a:pt x="479" y="54"/>
                </a:lnTo>
                <a:lnTo>
                  <a:pt x="464" y="51"/>
                </a:lnTo>
                <a:lnTo>
                  <a:pt x="434" y="47"/>
                </a:lnTo>
                <a:lnTo>
                  <a:pt x="378" y="39"/>
                </a:lnTo>
                <a:lnTo>
                  <a:pt x="353" y="36"/>
                </a:lnTo>
                <a:lnTo>
                  <a:pt x="305" y="34"/>
                </a:lnTo>
                <a:lnTo>
                  <a:pt x="258" y="33"/>
                </a:lnTo>
                <a:lnTo>
                  <a:pt x="119" y="33"/>
                </a:lnTo>
                <a:lnTo>
                  <a:pt x="117" y="34"/>
                </a:lnTo>
                <a:lnTo>
                  <a:pt x="114" y="36"/>
                </a:lnTo>
                <a:lnTo>
                  <a:pt x="108" y="38"/>
                </a:lnTo>
                <a:lnTo>
                  <a:pt x="102" y="39"/>
                </a:lnTo>
                <a:lnTo>
                  <a:pt x="95" y="42"/>
                </a:lnTo>
                <a:lnTo>
                  <a:pt x="87" y="45"/>
                </a:lnTo>
                <a:lnTo>
                  <a:pt x="80" y="48"/>
                </a:lnTo>
                <a:lnTo>
                  <a:pt x="73" y="50"/>
                </a:lnTo>
                <a:lnTo>
                  <a:pt x="69" y="53"/>
                </a:lnTo>
                <a:lnTo>
                  <a:pt x="65" y="54"/>
                </a:lnTo>
                <a:lnTo>
                  <a:pt x="59" y="55"/>
                </a:lnTo>
                <a:lnTo>
                  <a:pt x="57" y="55"/>
                </a:lnTo>
                <a:lnTo>
                  <a:pt x="56" y="56"/>
                </a:lnTo>
                <a:lnTo>
                  <a:pt x="52" y="59"/>
                </a:lnTo>
                <a:lnTo>
                  <a:pt x="48" y="60"/>
                </a:lnTo>
                <a:lnTo>
                  <a:pt x="46" y="61"/>
                </a:lnTo>
                <a:lnTo>
                  <a:pt x="42" y="63"/>
                </a:lnTo>
                <a:lnTo>
                  <a:pt x="41" y="64"/>
                </a:lnTo>
                <a:lnTo>
                  <a:pt x="37" y="66"/>
                </a:lnTo>
                <a:lnTo>
                  <a:pt x="35" y="66"/>
                </a:lnTo>
                <a:lnTo>
                  <a:pt x="31" y="68"/>
                </a:lnTo>
                <a:lnTo>
                  <a:pt x="29" y="70"/>
                </a:lnTo>
                <a:lnTo>
                  <a:pt x="27" y="72"/>
                </a:lnTo>
                <a:lnTo>
                  <a:pt x="21" y="78"/>
                </a:lnTo>
                <a:lnTo>
                  <a:pt x="18" y="80"/>
                </a:lnTo>
                <a:lnTo>
                  <a:pt x="13" y="82"/>
                </a:lnTo>
                <a:lnTo>
                  <a:pt x="12" y="83"/>
                </a:lnTo>
                <a:lnTo>
                  <a:pt x="11" y="85"/>
                </a:lnTo>
                <a:lnTo>
                  <a:pt x="10" y="86"/>
                </a:lnTo>
                <a:lnTo>
                  <a:pt x="9" y="87"/>
                </a:lnTo>
                <a:lnTo>
                  <a:pt x="8" y="88"/>
                </a:lnTo>
                <a:lnTo>
                  <a:pt x="6" y="89"/>
                </a:lnTo>
                <a:lnTo>
                  <a:pt x="5" y="89"/>
                </a:lnTo>
                <a:lnTo>
                  <a:pt x="4" y="91"/>
                </a:lnTo>
                <a:lnTo>
                  <a:pt x="4" y="92"/>
                </a:lnTo>
                <a:lnTo>
                  <a:pt x="3" y="93"/>
                </a:lnTo>
                <a:lnTo>
                  <a:pt x="2" y="94"/>
                </a:lnTo>
                <a:lnTo>
                  <a:pt x="0" y="94"/>
                </a:lnTo>
                <a:lnTo>
                  <a:pt x="1" y="95"/>
                </a:lnTo>
                <a:lnTo>
                  <a:pt x="7" y="96"/>
                </a:lnTo>
                <a:lnTo>
                  <a:pt x="13" y="98"/>
                </a:lnTo>
                <a:lnTo>
                  <a:pt x="27" y="101"/>
                </a:lnTo>
                <a:lnTo>
                  <a:pt x="46" y="104"/>
                </a:lnTo>
                <a:lnTo>
                  <a:pt x="94" y="106"/>
                </a:lnTo>
                <a:lnTo>
                  <a:pt x="781" y="106"/>
                </a:lnTo>
                <a:lnTo>
                  <a:pt x="786" y="105"/>
                </a:lnTo>
                <a:lnTo>
                  <a:pt x="793" y="103"/>
                </a:lnTo>
                <a:lnTo>
                  <a:pt x="818" y="101"/>
                </a:lnTo>
                <a:lnTo>
                  <a:pt x="837" y="101"/>
                </a:lnTo>
                <a:lnTo>
                  <a:pt x="841" y="100"/>
                </a:lnTo>
                <a:lnTo>
                  <a:pt x="850" y="97"/>
                </a:lnTo>
                <a:lnTo>
                  <a:pt x="865" y="95"/>
                </a:lnTo>
                <a:lnTo>
                  <a:pt x="893" y="95"/>
                </a:lnTo>
                <a:lnTo>
                  <a:pt x="899" y="93"/>
                </a:lnTo>
                <a:lnTo>
                  <a:pt x="905" y="91"/>
                </a:lnTo>
                <a:lnTo>
                  <a:pt x="913" y="87"/>
                </a:lnTo>
                <a:lnTo>
                  <a:pt x="918" y="85"/>
                </a:lnTo>
                <a:lnTo>
                  <a:pt x="927" y="84"/>
                </a:lnTo>
                <a:lnTo>
                  <a:pt x="930" y="84"/>
                </a:lnTo>
                <a:lnTo>
                  <a:pt x="937" y="82"/>
                </a:lnTo>
                <a:lnTo>
                  <a:pt x="941" y="81"/>
                </a:lnTo>
                <a:lnTo>
                  <a:pt x="955" y="79"/>
                </a:lnTo>
                <a:lnTo>
                  <a:pt x="1002" y="78"/>
                </a:lnTo>
                <a:lnTo>
                  <a:pt x="1540" y="78"/>
                </a:lnTo>
                <a:lnTo>
                  <a:pt x="1542" y="78"/>
                </a:lnTo>
                <a:lnTo>
                  <a:pt x="1548" y="74"/>
                </a:lnTo>
                <a:lnTo>
                  <a:pt x="1552" y="73"/>
                </a:lnTo>
                <a:lnTo>
                  <a:pt x="1557" y="73"/>
                </a:lnTo>
                <a:lnTo>
                  <a:pt x="1559" y="72"/>
                </a:lnTo>
                <a:lnTo>
                  <a:pt x="1563" y="70"/>
                </a:lnTo>
                <a:lnTo>
                  <a:pt x="1567" y="68"/>
                </a:lnTo>
                <a:lnTo>
                  <a:pt x="1572" y="67"/>
                </a:lnTo>
                <a:lnTo>
                  <a:pt x="1574" y="67"/>
                </a:lnTo>
                <a:lnTo>
                  <a:pt x="1576" y="67"/>
                </a:lnTo>
                <a:lnTo>
                  <a:pt x="1576" y="65"/>
                </a:lnTo>
                <a:lnTo>
                  <a:pt x="1577" y="64"/>
                </a:lnTo>
                <a:lnTo>
                  <a:pt x="1578" y="63"/>
                </a:lnTo>
                <a:lnTo>
                  <a:pt x="1579" y="63"/>
                </a:lnTo>
                <a:lnTo>
                  <a:pt x="1582" y="62"/>
                </a:lnTo>
                <a:lnTo>
                  <a:pt x="1586" y="62"/>
                </a:lnTo>
                <a:lnTo>
                  <a:pt x="1587" y="61"/>
                </a:lnTo>
                <a:lnTo>
                  <a:pt x="1588" y="60"/>
                </a:lnTo>
                <a:lnTo>
                  <a:pt x="1588" y="58"/>
                </a:lnTo>
                <a:lnTo>
                  <a:pt x="1589" y="58"/>
                </a:lnTo>
                <a:lnTo>
                  <a:pt x="1590" y="57"/>
                </a:lnTo>
                <a:lnTo>
                  <a:pt x="1592" y="57"/>
                </a:lnTo>
                <a:lnTo>
                  <a:pt x="1595" y="54"/>
                </a:lnTo>
                <a:lnTo>
                  <a:pt x="1597" y="53"/>
                </a:lnTo>
                <a:lnTo>
                  <a:pt x="1598" y="51"/>
                </a:lnTo>
                <a:lnTo>
                  <a:pt x="1599" y="50"/>
                </a:lnTo>
                <a:lnTo>
                  <a:pt x="1599" y="48"/>
                </a:lnTo>
                <a:lnTo>
                  <a:pt x="1600" y="47"/>
                </a:lnTo>
                <a:lnTo>
                  <a:pt x="1602" y="46"/>
                </a:lnTo>
                <a:lnTo>
                  <a:pt x="1603" y="46"/>
                </a:lnTo>
                <a:lnTo>
                  <a:pt x="1604" y="45"/>
                </a:lnTo>
                <a:lnTo>
                  <a:pt x="1605" y="43"/>
                </a:lnTo>
                <a:lnTo>
                  <a:pt x="1606" y="40"/>
                </a:lnTo>
                <a:lnTo>
                  <a:pt x="1606" y="39"/>
                </a:lnTo>
                <a:lnTo>
                  <a:pt x="1606" y="37"/>
                </a:lnTo>
                <a:lnTo>
                  <a:pt x="1606" y="35"/>
                </a:lnTo>
                <a:lnTo>
                  <a:pt x="1606" y="31"/>
                </a:lnTo>
                <a:lnTo>
                  <a:pt x="1605" y="29"/>
                </a:lnTo>
                <a:lnTo>
                  <a:pt x="1604" y="28"/>
                </a:lnTo>
                <a:lnTo>
                  <a:pt x="1603" y="26"/>
                </a:lnTo>
                <a:lnTo>
                  <a:pt x="1602" y="24"/>
                </a:lnTo>
                <a:lnTo>
                  <a:pt x="1600" y="24"/>
                </a:lnTo>
                <a:lnTo>
                  <a:pt x="1597" y="23"/>
                </a:lnTo>
                <a:lnTo>
                  <a:pt x="1576" y="22"/>
                </a:lnTo>
                <a:lnTo>
                  <a:pt x="1575" y="21"/>
                </a:lnTo>
                <a:lnTo>
                  <a:pt x="1574" y="20"/>
                </a:lnTo>
                <a:lnTo>
                  <a:pt x="1573" y="19"/>
                </a:lnTo>
                <a:lnTo>
                  <a:pt x="1572" y="18"/>
                </a:lnTo>
                <a:lnTo>
                  <a:pt x="1571" y="18"/>
                </a:lnTo>
                <a:lnTo>
                  <a:pt x="1568" y="17"/>
                </a:lnTo>
                <a:lnTo>
                  <a:pt x="1561" y="16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(cont.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venue sharing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ram which the federal government returns some of its tax money to local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ssistance plan (FA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to stream line the massive federal agencies regulations &amp; casework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lso a  simple pl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give poor families a minimum annual income and then let them take responsibility for themsel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0"/>
          <p:cNvSpPr/>
          <p:nvPr/>
        </p:nvSpPr>
        <p:spPr>
          <a:xfrm>
            <a:off x="1295280" y="2133720"/>
            <a:ext cx="2770200" cy="179280"/>
          </a:xfrm>
          <a:custGeom>
            <a:avLst/>
            <a:gdLst>
              <a:gd name="textAreaLeft" fmla="*/ 0 w 2770200"/>
              <a:gd name="textAreaRight" fmla="*/ 2770200 w 27702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45" h="113">
                <a:moveTo>
                  <a:pt x="23" y="11"/>
                </a:moveTo>
                <a:lnTo>
                  <a:pt x="99" y="11"/>
                </a:lnTo>
                <a:lnTo>
                  <a:pt x="107" y="9"/>
                </a:lnTo>
                <a:lnTo>
                  <a:pt x="114" y="7"/>
                </a:lnTo>
                <a:lnTo>
                  <a:pt x="125" y="5"/>
                </a:lnTo>
                <a:lnTo>
                  <a:pt x="130" y="3"/>
                </a:lnTo>
                <a:lnTo>
                  <a:pt x="136" y="1"/>
                </a:lnTo>
                <a:lnTo>
                  <a:pt x="188" y="0"/>
                </a:lnTo>
                <a:lnTo>
                  <a:pt x="1667" y="0"/>
                </a:lnTo>
                <a:lnTo>
                  <a:pt x="1669" y="1"/>
                </a:lnTo>
                <a:lnTo>
                  <a:pt x="1675" y="4"/>
                </a:lnTo>
                <a:lnTo>
                  <a:pt x="1684" y="7"/>
                </a:lnTo>
                <a:lnTo>
                  <a:pt x="1690" y="10"/>
                </a:lnTo>
                <a:lnTo>
                  <a:pt x="1697" y="13"/>
                </a:lnTo>
                <a:lnTo>
                  <a:pt x="1700" y="15"/>
                </a:lnTo>
                <a:lnTo>
                  <a:pt x="1703" y="17"/>
                </a:lnTo>
                <a:lnTo>
                  <a:pt x="1705" y="19"/>
                </a:lnTo>
                <a:lnTo>
                  <a:pt x="1710" y="21"/>
                </a:lnTo>
                <a:lnTo>
                  <a:pt x="1716" y="22"/>
                </a:lnTo>
                <a:lnTo>
                  <a:pt x="1718" y="22"/>
                </a:lnTo>
                <a:lnTo>
                  <a:pt x="1719" y="23"/>
                </a:lnTo>
                <a:lnTo>
                  <a:pt x="1723" y="25"/>
                </a:lnTo>
                <a:lnTo>
                  <a:pt x="1727" y="28"/>
                </a:lnTo>
                <a:lnTo>
                  <a:pt x="1729" y="30"/>
                </a:lnTo>
                <a:lnTo>
                  <a:pt x="1731" y="31"/>
                </a:lnTo>
                <a:lnTo>
                  <a:pt x="1734" y="33"/>
                </a:lnTo>
                <a:lnTo>
                  <a:pt x="1736" y="34"/>
                </a:lnTo>
                <a:lnTo>
                  <a:pt x="1737" y="35"/>
                </a:lnTo>
                <a:lnTo>
                  <a:pt x="1737" y="36"/>
                </a:lnTo>
                <a:lnTo>
                  <a:pt x="1738" y="37"/>
                </a:lnTo>
                <a:lnTo>
                  <a:pt x="1739" y="38"/>
                </a:lnTo>
                <a:lnTo>
                  <a:pt x="1741" y="38"/>
                </a:lnTo>
                <a:lnTo>
                  <a:pt x="1742" y="39"/>
                </a:lnTo>
                <a:lnTo>
                  <a:pt x="1743" y="41"/>
                </a:lnTo>
                <a:lnTo>
                  <a:pt x="1743" y="44"/>
                </a:lnTo>
                <a:lnTo>
                  <a:pt x="1744" y="47"/>
                </a:lnTo>
                <a:lnTo>
                  <a:pt x="1743" y="49"/>
                </a:lnTo>
                <a:lnTo>
                  <a:pt x="1742" y="51"/>
                </a:lnTo>
                <a:lnTo>
                  <a:pt x="1741" y="52"/>
                </a:lnTo>
                <a:lnTo>
                  <a:pt x="1739" y="54"/>
                </a:lnTo>
                <a:lnTo>
                  <a:pt x="1738" y="54"/>
                </a:lnTo>
                <a:lnTo>
                  <a:pt x="1736" y="55"/>
                </a:lnTo>
                <a:lnTo>
                  <a:pt x="1735" y="56"/>
                </a:lnTo>
                <a:lnTo>
                  <a:pt x="1734" y="57"/>
                </a:lnTo>
                <a:lnTo>
                  <a:pt x="1734" y="59"/>
                </a:lnTo>
                <a:lnTo>
                  <a:pt x="1732" y="60"/>
                </a:lnTo>
                <a:lnTo>
                  <a:pt x="1727" y="61"/>
                </a:lnTo>
                <a:lnTo>
                  <a:pt x="1720" y="61"/>
                </a:lnTo>
                <a:lnTo>
                  <a:pt x="1719" y="62"/>
                </a:lnTo>
                <a:lnTo>
                  <a:pt x="1718" y="63"/>
                </a:lnTo>
                <a:lnTo>
                  <a:pt x="1717" y="65"/>
                </a:lnTo>
                <a:lnTo>
                  <a:pt x="1716" y="66"/>
                </a:lnTo>
                <a:lnTo>
                  <a:pt x="1715" y="66"/>
                </a:lnTo>
                <a:lnTo>
                  <a:pt x="1712" y="67"/>
                </a:lnTo>
                <a:lnTo>
                  <a:pt x="1708" y="67"/>
                </a:lnTo>
                <a:lnTo>
                  <a:pt x="1707" y="68"/>
                </a:lnTo>
                <a:lnTo>
                  <a:pt x="1706" y="69"/>
                </a:lnTo>
                <a:lnTo>
                  <a:pt x="1706" y="70"/>
                </a:lnTo>
                <a:lnTo>
                  <a:pt x="1705" y="71"/>
                </a:lnTo>
                <a:lnTo>
                  <a:pt x="1703" y="72"/>
                </a:lnTo>
                <a:lnTo>
                  <a:pt x="1700" y="72"/>
                </a:lnTo>
                <a:lnTo>
                  <a:pt x="1697" y="73"/>
                </a:lnTo>
                <a:lnTo>
                  <a:pt x="1696" y="73"/>
                </a:lnTo>
                <a:lnTo>
                  <a:pt x="1695" y="75"/>
                </a:lnTo>
                <a:lnTo>
                  <a:pt x="1694" y="76"/>
                </a:lnTo>
                <a:lnTo>
                  <a:pt x="1693" y="77"/>
                </a:lnTo>
                <a:lnTo>
                  <a:pt x="1692" y="77"/>
                </a:lnTo>
                <a:lnTo>
                  <a:pt x="1689" y="78"/>
                </a:lnTo>
                <a:lnTo>
                  <a:pt x="1686" y="78"/>
                </a:lnTo>
                <a:lnTo>
                  <a:pt x="1684" y="79"/>
                </a:lnTo>
                <a:lnTo>
                  <a:pt x="1684" y="80"/>
                </a:lnTo>
                <a:lnTo>
                  <a:pt x="1683" y="82"/>
                </a:lnTo>
                <a:lnTo>
                  <a:pt x="1682" y="82"/>
                </a:lnTo>
                <a:lnTo>
                  <a:pt x="1681" y="83"/>
                </a:lnTo>
                <a:lnTo>
                  <a:pt x="1678" y="84"/>
                </a:lnTo>
                <a:lnTo>
                  <a:pt x="1674" y="84"/>
                </a:lnTo>
                <a:lnTo>
                  <a:pt x="1673" y="85"/>
                </a:lnTo>
                <a:lnTo>
                  <a:pt x="1672" y="86"/>
                </a:lnTo>
                <a:lnTo>
                  <a:pt x="1672" y="87"/>
                </a:lnTo>
                <a:lnTo>
                  <a:pt x="1671" y="88"/>
                </a:lnTo>
                <a:lnTo>
                  <a:pt x="1670" y="89"/>
                </a:lnTo>
                <a:lnTo>
                  <a:pt x="1668" y="89"/>
                </a:lnTo>
                <a:lnTo>
                  <a:pt x="1665" y="91"/>
                </a:lnTo>
                <a:lnTo>
                  <a:pt x="1663" y="93"/>
                </a:lnTo>
                <a:lnTo>
                  <a:pt x="1661" y="94"/>
                </a:lnTo>
                <a:lnTo>
                  <a:pt x="1658" y="95"/>
                </a:lnTo>
                <a:lnTo>
                  <a:pt x="1656" y="96"/>
                </a:lnTo>
                <a:lnTo>
                  <a:pt x="1656" y="97"/>
                </a:lnTo>
                <a:lnTo>
                  <a:pt x="1655" y="98"/>
                </a:lnTo>
                <a:lnTo>
                  <a:pt x="1654" y="99"/>
                </a:lnTo>
                <a:lnTo>
                  <a:pt x="1653" y="100"/>
                </a:lnTo>
                <a:lnTo>
                  <a:pt x="1650" y="101"/>
                </a:lnTo>
                <a:lnTo>
                  <a:pt x="1646" y="101"/>
                </a:lnTo>
                <a:lnTo>
                  <a:pt x="1645" y="102"/>
                </a:lnTo>
                <a:lnTo>
                  <a:pt x="1644" y="103"/>
                </a:lnTo>
                <a:lnTo>
                  <a:pt x="1644" y="104"/>
                </a:lnTo>
                <a:lnTo>
                  <a:pt x="1643" y="105"/>
                </a:lnTo>
                <a:lnTo>
                  <a:pt x="1641" y="106"/>
                </a:lnTo>
                <a:lnTo>
                  <a:pt x="1638" y="106"/>
                </a:lnTo>
                <a:lnTo>
                  <a:pt x="1624" y="107"/>
                </a:lnTo>
                <a:lnTo>
                  <a:pt x="1623" y="107"/>
                </a:lnTo>
                <a:lnTo>
                  <a:pt x="1622" y="108"/>
                </a:lnTo>
                <a:lnTo>
                  <a:pt x="1621" y="110"/>
                </a:lnTo>
                <a:lnTo>
                  <a:pt x="1620" y="111"/>
                </a:lnTo>
                <a:lnTo>
                  <a:pt x="1619" y="111"/>
                </a:lnTo>
                <a:lnTo>
                  <a:pt x="1616" y="112"/>
                </a:lnTo>
                <a:lnTo>
                  <a:pt x="1562" y="112"/>
                </a:lnTo>
                <a:lnTo>
                  <a:pt x="1520" y="112"/>
                </a:lnTo>
                <a:lnTo>
                  <a:pt x="1513" y="111"/>
                </a:lnTo>
                <a:lnTo>
                  <a:pt x="1506" y="108"/>
                </a:lnTo>
                <a:lnTo>
                  <a:pt x="1498" y="105"/>
                </a:lnTo>
                <a:lnTo>
                  <a:pt x="1487" y="99"/>
                </a:lnTo>
                <a:lnTo>
                  <a:pt x="1481" y="97"/>
                </a:lnTo>
                <a:lnTo>
                  <a:pt x="1470" y="95"/>
                </a:lnTo>
                <a:lnTo>
                  <a:pt x="1465" y="92"/>
                </a:lnTo>
                <a:lnTo>
                  <a:pt x="1461" y="91"/>
                </a:lnTo>
                <a:lnTo>
                  <a:pt x="1406" y="90"/>
                </a:lnTo>
                <a:lnTo>
                  <a:pt x="1337" y="90"/>
                </a:lnTo>
                <a:lnTo>
                  <a:pt x="1325" y="87"/>
                </a:lnTo>
                <a:lnTo>
                  <a:pt x="1314" y="85"/>
                </a:lnTo>
                <a:lnTo>
                  <a:pt x="1261" y="84"/>
                </a:lnTo>
                <a:lnTo>
                  <a:pt x="1039" y="84"/>
                </a:lnTo>
                <a:lnTo>
                  <a:pt x="1030" y="83"/>
                </a:lnTo>
                <a:lnTo>
                  <a:pt x="1020" y="80"/>
                </a:lnTo>
                <a:lnTo>
                  <a:pt x="998" y="79"/>
                </a:lnTo>
                <a:lnTo>
                  <a:pt x="502" y="79"/>
                </a:lnTo>
                <a:lnTo>
                  <a:pt x="499" y="78"/>
                </a:lnTo>
                <a:lnTo>
                  <a:pt x="492" y="75"/>
                </a:lnTo>
                <a:lnTo>
                  <a:pt x="486" y="74"/>
                </a:lnTo>
                <a:lnTo>
                  <a:pt x="434" y="73"/>
                </a:lnTo>
                <a:lnTo>
                  <a:pt x="0" y="73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5105520" y="3200400"/>
            <a:ext cx="796680" cy="117360"/>
            <a:chOff x="5105520" y="3200400"/>
            <a:chExt cx="796680" cy="117360"/>
          </a:xfrm>
        </p:grpSpPr>
        <p:sp>
          <p:nvSpPr>
            <p:cNvPr id="124" name="SMARTPenAnnotation1"/>
            <p:cNvSpPr/>
            <p:nvPr/>
          </p:nvSpPr>
          <p:spPr>
            <a:xfrm>
              <a:off x="5105520" y="3200400"/>
              <a:ext cx="796680" cy="936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02" h="6">
                  <a:moveTo>
                    <a:pt x="0" y="0"/>
                  </a:moveTo>
                  <a:lnTo>
                    <a:pt x="247" y="0"/>
                  </a:lnTo>
                  <a:lnTo>
                    <a:pt x="253" y="0"/>
                  </a:lnTo>
                  <a:lnTo>
                    <a:pt x="260" y="1"/>
                  </a:lnTo>
                  <a:lnTo>
                    <a:pt x="267" y="2"/>
                  </a:lnTo>
                  <a:lnTo>
                    <a:pt x="273" y="3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7" y="5"/>
                  </a:lnTo>
                  <a:lnTo>
                    <a:pt x="296" y="5"/>
                  </a:lnTo>
                  <a:lnTo>
                    <a:pt x="313" y="5"/>
                  </a:lnTo>
                  <a:lnTo>
                    <a:pt x="501" y="5"/>
                  </a:lnTo>
                </a:path>
              </a:pathLst>
            </a:custGeom>
            <a:noFill/>
            <a:ln w="213480">
              <a:solidFill>
                <a:srgbClr val="ffff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MARTPenAnnotation2"/>
            <p:cNvSpPr/>
            <p:nvPr/>
          </p:nvSpPr>
          <p:spPr>
            <a:xfrm>
              <a:off x="5114880" y="3306600"/>
              <a:ext cx="705960" cy="11160"/>
            </a:xfrm>
            <a:custGeom>
              <a:avLst/>
              <a:gdLst>
                <a:gd name="textAreaLeft" fmla="*/ 0 w 705960"/>
                <a:gd name="textAreaRight" fmla="*/ 706320 w 705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45" h="7">
                  <a:moveTo>
                    <a:pt x="0" y="6"/>
                  </a:moveTo>
                  <a:lnTo>
                    <a:pt x="239" y="6"/>
                  </a:lnTo>
                  <a:lnTo>
                    <a:pt x="243" y="5"/>
                  </a:lnTo>
                  <a:lnTo>
                    <a:pt x="247" y="4"/>
                  </a:lnTo>
                  <a:lnTo>
                    <a:pt x="251" y="3"/>
                  </a:lnTo>
                  <a:lnTo>
                    <a:pt x="254" y="2"/>
                  </a:lnTo>
                  <a:lnTo>
                    <a:pt x="256" y="1"/>
                  </a:lnTo>
                  <a:lnTo>
                    <a:pt x="259" y="1"/>
                  </a:lnTo>
                  <a:lnTo>
                    <a:pt x="262" y="1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90" y="0"/>
                  </a:lnTo>
                  <a:lnTo>
                    <a:pt x="444" y="0"/>
                  </a:lnTo>
                </a:path>
              </a:pathLst>
            </a:custGeom>
            <a:noFill/>
            <a:ln w="213480">
              <a:solidFill>
                <a:srgbClr val="ffff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7257960" y="0"/>
            <a:ext cx="1886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ealing to Sou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9 FBI targeted the Black Panther party, police killed an estimated 28 Pan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dreds more were arre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had adopted a ‘southern strategy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ern Strategy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lan designed to appeal directly to southern white conserv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rved as president untill 19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0"/>
          <p:cNvSpPr/>
          <p:nvPr/>
        </p:nvSpPr>
        <p:spPr>
          <a:xfrm>
            <a:off x="1600200" y="4572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0"/>
            <a:ext cx="80074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6:56:45Z</dcterms:created>
  <dc:creator>Anthony</dc:creator>
  <dc:description/>
  <dc:language>en-US</dc:language>
  <cp:lastModifiedBy>ASD</cp:lastModifiedBy>
  <dcterms:modified xsi:type="dcterms:W3CDTF">2010-07-07T21:01:13Z</dcterms:modified>
  <cp:revision>24</cp:revision>
  <dc:subject/>
  <dc:title>President Nixon</dc:title>
</cp:coreProperties>
</file>